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12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1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841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6765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6765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1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39841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39841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841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39841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12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8412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841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39841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6765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6765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841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39841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3984120"/>
            <a:ext cx="250200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1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841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676520"/>
            <a:ext cx="37918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120"/>
            <a:ext cx="777096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6248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248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47840" y="284040"/>
            <a:ext cx="6580080" cy="117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71720" y="3932280"/>
            <a:ext cx="714852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ology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-varying Data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65600" y="4202280"/>
            <a:ext cx="278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443376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jith Mascaren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C – LL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joint work with Valerio Pascucci, Peer-Timo Bremer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30200" y="1544760"/>
            <a:ext cx="2467080" cy="2431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43440" y="1552680"/>
            <a:ext cx="4002120" cy="2411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V="1">
            <a:off x="1297080" y="530028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knowledgm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ckie Chen (Sandia La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work was performed under the auspices of the U.S. Department of Energy by University of California, Lawrence Livermore National Laboratory under Contract W-7405-Eng-4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35120" y="145044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 features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atures are application 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evolution of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on, De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rge, Spl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35120" y="145044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571760"/>
            <a:ext cx="695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ing critical points using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acobi se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delsbrunner &amp; Harer 0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4648320" cy="4583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>
            <a:off x="735120" y="145224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13120" y="2736720"/>
            <a:ext cx="571680" cy="1886040"/>
          </a:xfrm>
          <a:custGeom>
            <a:avLst/>
            <a:gdLst/>
            <a:ahLst/>
            <a:rect l="l" t="t" r="r" b="b"/>
            <a:pathLst>
              <a:path w="1589" h="5240">
                <a:moveTo>
                  <a:pt x="0" y="5239"/>
                </a:moveTo>
                <a:lnTo>
                  <a:pt x="0" y="3400"/>
                </a:lnTo>
                <a:lnTo>
                  <a:pt x="1588" y="3400"/>
                </a:lnTo>
                <a:lnTo>
                  <a:pt x="1588" y="0"/>
                </a:lnTo>
              </a:path>
            </a:pathLst>
          </a:custGeom>
          <a:noFill/>
          <a:ln w="7308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7920" y="3503520"/>
            <a:ext cx="1440" cy="1805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3920" y="3216240"/>
            <a:ext cx="1800" cy="1805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000240"/>
            <a:ext cx="1800" cy="161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86240" y="2746440"/>
            <a:ext cx="1440" cy="21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1880" y="3279600"/>
            <a:ext cx="1800" cy="2000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4240" y="3638520"/>
            <a:ext cx="1800" cy="18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4611600"/>
            <a:ext cx="2797200" cy="833400"/>
          </a:xfrm>
          <a:custGeom>
            <a:avLst/>
            <a:gdLst/>
            <a:ahLst/>
            <a:rect l="l" t="t" r="r" b="b"/>
            <a:pathLst>
              <a:path w="7772" h="2314">
                <a:moveTo>
                  <a:pt x="0" y="1917"/>
                </a:moveTo>
                <a:lnTo>
                  <a:pt x="1688" y="1104"/>
                </a:lnTo>
                <a:lnTo>
                  <a:pt x="3375" y="0"/>
                </a:lnTo>
                <a:lnTo>
                  <a:pt x="4875" y="688"/>
                </a:lnTo>
                <a:lnTo>
                  <a:pt x="6254" y="1818"/>
                </a:lnTo>
                <a:lnTo>
                  <a:pt x="7771" y="2313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7176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ing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acobi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xplained with a 1D time-varying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1461960"/>
            <a:ext cx="6708600" cy="180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68600" y="524844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44960" y="496080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57680" y="4564080"/>
            <a:ext cx="104760" cy="104760"/>
          </a:xfrm>
          <a:prstGeom prst="ellipse">
            <a:avLst/>
          </a:prstGeom>
          <a:solidFill>
            <a:srgbClr val="dc230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34040" y="481644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22920" y="521172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7000" y="5392800"/>
            <a:ext cx="10512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5600" y="5302080"/>
            <a:ext cx="61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24040" y="2749680"/>
            <a:ext cx="2797200" cy="895320"/>
          </a:xfrm>
          <a:custGeom>
            <a:avLst/>
            <a:gdLst/>
            <a:ahLst/>
            <a:rect l="l" t="t" r="r" b="b"/>
            <a:pathLst>
              <a:path w="7772" h="2486">
                <a:moveTo>
                  <a:pt x="0" y="2089"/>
                </a:moveTo>
                <a:lnTo>
                  <a:pt x="1688" y="1276"/>
                </a:lnTo>
                <a:lnTo>
                  <a:pt x="3303" y="768"/>
                </a:lnTo>
                <a:lnTo>
                  <a:pt x="4891" y="0"/>
                </a:lnTo>
                <a:lnTo>
                  <a:pt x="6214" y="1389"/>
                </a:lnTo>
                <a:lnTo>
                  <a:pt x="7771" y="2485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70040" y="344808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6400" y="316080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3000" y="297504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34040" y="2692440"/>
            <a:ext cx="104760" cy="104760"/>
          </a:xfrm>
          <a:prstGeom prst="ellipse">
            <a:avLst/>
          </a:prstGeom>
          <a:solidFill>
            <a:srgbClr val="dc230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24360" y="322272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42040" y="359244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5600" y="3502080"/>
            <a:ext cx="61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89360" y="268920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89360" y="467028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29000" y="4923000"/>
            <a:ext cx="29556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37000" y="247500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70040" y="3340080"/>
            <a:ext cx="2876760" cy="825480"/>
            <a:chOff x="2570040" y="3340080"/>
            <a:chExt cx="2876760" cy="825480"/>
          </a:xfrm>
        </p:grpSpPr>
        <p:sp>
          <p:nvSpPr>
            <p:cNvPr id="122" name=""/>
            <p:cNvSpPr/>
            <p:nvPr/>
          </p:nvSpPr>
          <p:spPr>
            <a:xfrm>
              <a:off x="2624040" y="3384720"/>
              <a:ext cx="2770200" cy="723600"/>
            </a:xfrm>
            <a:custGeom>
              <a:avLst/>
              <a:gdLst/>
              <a:ahLst/>
              <a:rect l="l" t="t" r="r" b="b"/>
              <a:pathLst>
                <a:path w="7696" h="2011">
                  <a:moveTo>
                    <a:pt x="0" y="1623"/>
                  </a:moveTo>
                  <a:lnTo>
                    <a:pt x="1688" y="810"/>
                  </a:lnTo>
                  <a:lnTo>
                    <a:pt x="3290" y="516"/>
                  </a:lnTo>
                  <a:lnTo>
                    <a:pt x="4891" y="0"/>
                  </a:lnTo>
                  <a:lnTo>
                    <a:pt x="6240" y="1084"/>
                  </a:lnTo>
                  <a:lnTo>
                    <a:pt x="7695" y="2010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0040" y="39164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46400" y="362916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53000" y="351648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34040" y="3340080"/>
              <a:ext cx="104760" cy="104760"/>
            </a:xfrm>
            <a:prstGeom prst="ellipse">
              <a:avLst/>
            </a:prstGeom>
            <a:solidFill>
              <a:srgbClr val="dc230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4360" y="37260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42040" y="40608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70040" y="4218120"/>
            <a:ext cx="2872080" cy="882360"/>
            <a:chOff x="2570040" y="4218120"/>
            <a:chExt cx="2872080" cy="882360"/>
          </a:xfrm>
        </p:grpSpPr>
        <p:sp>
          <p:nvSpPr>
            <p:cNvPr id="130" name=""/>
            <p:cNvSpPr/>
            <p:nvPr/>
          </p:nvSpPr>
          <p:spPr>
            <a:xfrm>
              <a:off x="2614680" y="4260960"/>
              <a:ext cx="2797200" cy="787320"/>
            </a:xfrm>
            <a:custGeom>
              <a:avLst/>
              <a:gdLst/>
              <a:ahLst/>
              <a:rect l="l" t="t" r="r" b="b"/>
              <a:pathLst>
                <a:path w="7772" h="2186">
                  <a:moveTo>
                    <a:pt x="0" y="1789"/>
                  </a:moveTo>
                  <a:lnTo>
                    <a:pt x="1596" y="939"/>
                  </a:lnTo>
                  <a:lnTo>
                    <a:pt x="3316" y="0"/>
                  </a:lnTo>
                  <a:lnTo>
                    <a:pt x="4943" y="410"/>
                  </a:lnTo>
                  <a:lnTo>
                    <a:pt x="6254" y="1690"/>
                  </a:lnTo>
                  <a:lnTo>
                    <a:pt x="7771" y="2185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70040" y="485316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46400" y="45464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57680" y="4218120"/>
              <a:ext cx="104760" cy="104760"/>
            </a:xfrm>
            <a:prstGeom prst="ellipse">
              <a:avLst/>
            </a:prstGeom>
            <a:solidFill>
              <a:srgbClr val="dc230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34040" y="434988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4360" y="48164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7000" y="4995720"/>
              <a:ext cx="10512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89040" y="4268520"/>
            <a:ext cx="2143080" cy="837720"/>
            <a:chOff x="1589040" y="4268520"/>
            <a:chExt cx="2143080" cy="837720"/>
          </a:xfrm>
        </p:grpSpPr>
        <p:sp>
          <p:nvSpPr>
            <p:cNvPr id="138" name=""/>
            <p:cNvSpPr/>
            <p:nvPr/>
          </p:nvSpPr>
          <p:spPr>
            <a:xfrm>
              <a:off x="1589040" y="4546440"/>
              <a:ext cx="12002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 still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465280" y="4268520"/>
              <a:ext cx="1266840" cy="447480"/>
            </a:xfrm>
            <a:prstGeom prst="line">
              <a:avLst/>
            </a:prstGeom>
            <a:ln w="36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465280" y="4268520"/>
              <a:ext cx="1266840" cy="447480"/>
            </a:xfrm>
            <a:prstGeom prst="line">
              <a:avLst/>
            </a:prstGeom>
            <a:ln w="18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35200" y="2735280"/>
            <a:ext cx="1746360" cy="592200"/>
            <a:chOff x="4435200" y="2735280"/>
            <a:chExt cx="1746360" cy="592200"/>
          </a:xfrm>
        </p:grpSpPr>
        <p:sp>
          <p:nvSpPr>
            <p:cNvPr id="142" name=""/>
            <p:cNvSpPr/>
            <p:nvPr/>
          </p:nvSpPr>
          <p:spPr>
            <a:xfrm>
              <a:off x="4981680" y="2735280"/>
              <a:ext cx="11998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 max n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435200" y="2970360"/>
              <a:ext cx="593640" cy="357120"/>
            </a:xfrm>
            <a:prstGeom prst="line">
              <a:avLst/>
            </a:prstGeom>
            <a:ln w="36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435200" y="2970360"/>
              <a:ext cx="593640" cy="357120"/>
            </a:xfrm>
            <a:prstGeom prst="line">
              <a:avLst/>
            </a:prstGeom>
            <a:ln w="18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570040" y="3903840"/>
            <a:ext cx="2872080" cy="765000"/>
            <a:chOff x="2570040" y="3903840"/>
            <a:chExt cx="2872080" cy="765000"/>
          </a:xfrm>
        </p:grpSpPr>
        <p:sp>
          <p:nvSpPr>
            <p:cNvPr id="146" name=""/>
            <p:cNvSpPr/>
            <p:nvPr/>
          </p:nvSpPr>
          <p:spPr>
            <a:xfrm>
              <a:off x="2614680" y="3959280"/>
              <a:ext cx="2797200" cy="657000"/>
            </a:xfrm>
            <a:custGeom>
              <a:avLst/>
              <a:gdLst/>
              <a:ahLst/>
              <a:rect l="l" t="t" r="r" b="b"/>
              <a:pathLst>
                <a:path w="7772" h="1827">
                  <a:moveTo>
                    <a:pt x="0" y="1430"/>
                  </a:moveTo>
                  <a:lnTo>
                    <a:pt x="1596" y="580"/>
                  </a:lnTo>
                  <a:lnTo>
                    <a:pt x="3315" y="3"/>
                  </a:lnTo>
                  <a:lnTo>
                    <a:pt x="4889" y="0"/>
                  </a:lnTo>
                  <a:lnTo>
                    <a:pt x="6265" y="1231"/>
                  </a:lnTo>
                  <a:lnTo>
                    <a:pt x="7771" y="1826"/>
                  </a:lnTo>
                </a:path>
              </a:pathLst>
            </a:custGeom>
            <a:noFill/>
            <a:ln w="54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0040" y="442116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46400" y="41148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3760" y="3962520"/>
              <a:ext cx="585720" cy="1440"/>
            </a:xfrm>
            <a:prstGeom prst="line">
              <a:avLst/>
            </a:prstGeom>
            <a:ln w="73080">
              <a:solidFill>
                <a:srgbClr val="dc2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7680" y="3903840"/>
              <a:ext cx="104760" cy="104760"/>
            </a:xfrm>
            <a:prstGeom prst="ellipse">
              <a:avLst/>
            </a:prstGeom>
            <a:solidFill>
              <a:srgbClr val="dc230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34040" y="3909960"/>
              <a:ext cx="104760" cy="104760"/>
            </a:xfrm>
            <a:prstGeom prst="ellipse">
              <a:avLst/>
            </a:prstGeom>
            <a:solidFill>
              <a:srgbClr val="dc230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360" y="43434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7000" y="4564080"/>
              <a:ext cx="10512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478040" y="3978000"/>
            <a:ext cx="2773800" cy="968040"/>
            <a:chOff x="4478040" y="3978000"/>
            <a:chExt cx="2773800" cy="968040"/>
          </a:xfrm>
        </p:grpSpPr>
        <p:sp>
          <p:nvSpPr>
            <p:cNvPr id="155" name=""/>
            <p:cNvSpPr/>
            <p:nvPr/>
          </p:nvSpPr>
          <p:spPr>
            <a:xfrm>
              <a:off x="6051600" y="4386240"/>
              <a:ext cx="12002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(u) = f(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4601880" y="4025880"/>
              <a:ext cx="1422360" cy="511200"/>
            </a:xfrm>
            <a:prstGeom prst="line">
              <a:avLst/>
            </a:prstGeom>
            <a:ln w="367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4478040" y="3978000"/>
              <a:ext cx="1531800" cy="555480"/>
            </a:xfrm>
            <a:prstGeom prst="line">
              <a:avLst/>
            </a:prstGeom>
            <a:ln w="18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914480" y="4475160"/>
            <a:ext cx="471600" cy="795240"/>
            <a:chOff x="1914480" y="4475160"/>
            <a:chExt cx="471600" cy="795240"/>
          </a:xfrm>
        </p:grpSpPr>
        <p:sp>
          <p:nvSpPr>
            <p:cNvPr id="159" name=""/>
            <p:cNvSpPr/>
            <p:nvPr/>
          </p:nvSpPr>
          <p:spPr>
            <a:xfrm>
              <a:off x="1914480" y="4475160"/>
              <a:ext cx="471600" cy="433440"/>
            </a:xfrm>
            <a:custGeom>
              <a:avLst/>
              <a:gdLst/>
              <a:ahLst/>
              <a:rect l="l" t="t" r="r" b="b"/>
              <a:pathLst>
                <a:path w="1311" h="1205">
                  <a:moveTo>
                    <a:pt x="1310" y="1204"/>
                  </a:moveTo>
                  <a:cubicBezTo>
                    <a:pt x="0" y="754"/>
                    <a:pt x="1283" y="0"/>
                    <a:pt x="1283" y="0"/>
                  </a:cubicBezTo>
                </a:path>
              </a:pathLst>
            </a:custGeom>
            <a:noFill/>
            <a:ln w="18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00160" y="4917960"/>
              <a:ext cx="366840" cy="352440"/>
            </a:xfrm>
            <a:custGeom>
              <a:avLst/>
              <a:gdLst/>
              <a:ahLst/>
              <a:rect l="l" t="t" r="r" b="b"/>
              <a:pathLst>
                <a:path w="1020" h="980">
                  <a:moveTo>
                    <a:pt x="1019" y="0"/>
                  </a:moveTo>
                  <a:cubicBezTo>
                    <a:pt x="331" y="344"/>
                    <a:pt x="0" y="529"/>
                    <a:pt x="1019" y="979"/>
                  </a:cubicBezTo>
                </a:path>
              </a:pathLst>
            </a:custGeom>
            <a:noFill/>
            <a:ln w="18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91040" y="4403880"/>
            <a:ext cx="729000" cy="704520"/>
            <a:chOff x="5891040" y="4403880"/>
            <a:chExt cx="729000" cy="704520"/>
          </a:xfrm>
        </p:grpSpPr>
        <p:sp>
          <p:nvSpPr>
            <p:cNvPr id="162" name=""/>
            <p:cNvSpPr/>
            <p:nvPr/>
          </p:nvSpPr>
          <p:spPr>
            <a:xfrm>
              <a:off x="5910120" y="4422600"/>
              <a:ext cx="600120" cy="486000"/>
            </a:xfrm>
            <a:custGeom>
              <a:avLst/>
              <a:gdLst/>
              <a:ahLst/>
              <a:rect l="l" t="t" r="r" b="b"/>
              <a:pathLst>
                <a:path w="1668" h="1350">
                  <a:moveTo>
                    <a:pt x="53" y="0"/>
                  </a:moveTo>
                  <a:cubicBezTo>
                    <a:pt x="1667" y="172"/>
                    <a:pt x="0" y="1349"/>
                    <a:pt x="0" y="1349"/>
                  </a:cubicBezTo>
                </a:path>
              </a:pathLst>
            </a:custGeom>
            <a:noFill/>
            <a:ln w="18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91040" y="4403880"/>
              <a:ext cx="729000" cy="704520"/>
            </a:xfrm>
            <a:custGeom>
              <a:avLst/>
              <a:gdLst/>
              <a:ahLst/>
              <a:rect l="l" t="t" r="r" b="b"/>
              <a:pathLst>
                <a:path w="2025" h="1959">
                  <a:moveTo>
                    <a:pt x="0" y="0"/>
                  </a:moveTo>
                  <a:cubicBezTo>
                    <a:pt x="1574" y="423"/>
                    <a:pt x="2024" y="1495"/>
                    <a:pt x="52" y="1958"/>
                  </a:cubicBezTo>
                </a:path>
              </a:pathLst>
            </a:custGeom>
            <a:noFill/>
            <a:ln w="18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386080" y="4475160"/>
            <a:ext cx="1673280" cy="203040"/>
          </a:xfrm>
          <a:prstGeom prst="line">
            <a:avLst/>
          </a:prstGeom>
          <a:ln w="7308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59360" y="4420800"/>
            <a:ext cx="1830240" cy="258840"/>
          </a:xfrm>
          <a:prstGeom prst="line">
            <a:avLst/>
          </a:prstGeom>
          <a:ln w="7308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378160" y="4481280"/>
            <a:ext cx="3512880" cy="41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376000" y="5113440"/>
            <a:ext cx="3529080" cy="16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ing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acobi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xplained with a 1D time-varying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35120" y="145044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66880" y="2820960"/>
            <a:ext cx="2797200" cy="833400"/>
          </a:xfrm>
          <a:custGeom>
            <a:avLst/>
            <a:gdLst/>
            <a:ahLst/>
            <a:rect l="l" t="t" r="r" b="b"/>
            <a:pathLst>
              <a:path w="7772" h="2314">
                <a:moveTo>
                  <a:pt x="0" y="1917"/>
                </a:moveTo>
                <a:lnTo>
                  <a:pt x="1688" y="1104"/>
                </a:lnTo>
                <a:lnTo>
                  <a:pt x="3375" y="0"/>
                </a:lnTo>
                <a:lnTo>
                  <a:pt x="4875" y="688"/>
                </a:lnTo>
                <a:lnTo>
                  <a:pt x="6254" y="1818"/>
                </a:lnTo>
                <a:lnTo>
                  <a:pt x="7771" y="2313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2240" y="345744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98600" y="316872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09880" y="2773440"/>
            <a:ext cx="104760" cy="104760"/>
          </a:xfrm>
          <a:prstGeom prst="ellipse">
            <a:avLst/>
          </a:prstGeom>
          <a:solidFill>
            <a:srgbClr val="dc230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85880" y="302580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76560" y="342108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9200" y="360216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41560" y="287820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83000" y="313056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94360" y="2827440"/>
            <a:ext cx="2797200" cy="895320"/>
          </a:xfrm>
          <a:custGeom>
            <a:avLst/>
            <a:gdLst/>
            <a:ahLst/>
            <a:rect l="l" t="t" r="r" b="b"/>
            <a:pathLst>
              <a:path w="7772" h="2486">
                <a:moveTo>
                  <a:pt x="0" y="2089"/>
                </a:moveTo>
                <a:lnTo>
                  <a:pt x="1688" y="1276"/>
                </a:lnTo>
                <a:lnTo>
                  <a:pt x="3303" y="768"/>
                </a:lnTo>
                <a:lnTo>
                  <a:pt x="4891" y="0"/>
                </a:lnTo>
                <a:lnTo>
                  <a:pt x="6214" y="1389"/>
                </a:lnTo>
                <a:lnTo>
                  <a:pt x="7771" y="2485"/>
                </a:lnTo>
              </a:path>
            </a:pathLst>
          </a:custGeom>
          <a:noFill/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40360" y="352728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6720" y="323856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22960" y="305424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2770200"/>
            <a:ext cx="104760" cy="104760"/>
          </a:xfrm>
          <a:prstGeom prst="ellipse">
            <a:avLst/>
          </a:prstGeom>
          <a:solidFill>
            <a:srgbClr val="dc230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96120" y="330048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367020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59680" y="276876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35680" y="251784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91840" y="4430880"/>
            <a:ext cx="3505320" cy="48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3520" y="486108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33520" y="522144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2600" y="4844880"/>
            <a:ext cx="104760" cy="10512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2600" y="5060880"/>
            <a:ext cx="104760" cy="104760"/>
          </a:xfrm>
          <a:prstGeom prst="ellipse">
            <a:avLst/>
          </a:prstGeom>
          <a:solidFill>
            <a:srgbClr val="c0c0c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28840" y="4430880"/>
            <a:ext cx="104760" cy="104760"/>
          </a:xfrm>
          <a:prstGeom prst="ellipse">
            <a:avLst/>
          </a:prstGeom>
          <a:solidFill>
            <a:srgbClr val="dc230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1160" y="4365720"/>
            <a:ext cx="104760" cy="104760"/>
          </a:xfrm>
          <a:prstGeom prst="ellipse">
            <a:avLst/>
          </a:prstGeom>
          <a:solidFill>
            <a:srgbClr val="dc2300"/>
          </a:solidFill>
          <a:ln w="36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1560" y="475128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51000" y="421164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51600" y="475632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27840" y="4149720"/>
            <a:ext cx="29520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7000" y="5799240"/>
            <a:ext cx="3666960" cy="1440"/>
          </a:xfrm>
          <a:prstGeom prst="line">
            <a:avLst/>
          </a:prstGeom>
          <a:ln w="367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32240" y="5902200"/>
            <a:ext cx="5162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71640" y="3630600"/>
            <a:ext cx="61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3440" y="3630600"/>
            <a:ext cx="61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ing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acobi set --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eneralizes to higher dimen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35120" y="145044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1320" y="2451240"/>
            <a:ext cx="3183120" cy="2170800"/>
            <a:chOff x="841320" y="2451240"/>
            <a:chExt cx="3183120" cy="2170800"/>
          </a:xfrm>
        </p:grpSpPr>
        <p:sp>
          <p:nvSpPr>
            <p:cNvPr id="208" name=""/>
            <p:cNvSpPr/>
            <p:nvPr/>
          </p:nvSpPr>
          <p:spPr>
            <a:xfrm>
              <a:off x="1484280" y="2760840"/>
              <a:ext cx="1800" cy="10872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92080" y="3308400"/>
              <a:ext cx="11779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888840" y="2759040"/>
              <a:ext cx="59724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482840" y="3305160"/>
              <a:ext cx="590400" cy="54288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901800" y="2761920"/>
              <a:ext cx="1168200" cy="108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70000" y="2760840"/>
              <a:ext cx="1800" cy="54900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82840" y="2760840"/>
              <a:ext cx="58716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0000" y="3844800"/>
              <a:ext cx="587520" cy="180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92080" y="3300480"/>
              <a:ext cx="1800" cy="54936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1320" y="324324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32080" y="32432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7800" y="324324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17800" y="270360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30280" y="27036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1320" y="378288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2080" y="378288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87600" y="2760840"/>
              <a:ext cx="1800" cy="10872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3960" y="3308400"/>
              <a:ext cx="11779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790720" y="2759040"/>
              <a:ext cx="596880" cy="54936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384720" y="3305160"/>
              <a:ext cx="590400" cy="54288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2803680" y="2761920"/>
              <a:ext cx="1168200" cy="108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73680" y="2760840"/>
              <a:ext cx="1440" cy="54900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84720" y="2760840"/>
              <a:ext cx="587160" cy="144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01880" y="3844800"/>
              <a:ext cx="587520" cy="180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93960" y="3300480"/>
              <a:ext cx="1800" cy="54936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4640" y="324324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33600" y="32432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19680" y="324324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19680" y="270360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33600" y="270360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9960" y="3773520"/>
              <a:ext cx="115920" cy="11592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33600" y="378288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322280" y="2451240"/>
              <a:ext cx="295560" cy="832320"/>
              <a:chOff x="1322280" y="2451240"/>
              <a:chExt cx="295560" cy="832320"/>
            </a:xfrm>
          </p:grpSpPr>
          <p:sp>
            <p:nvSpPr>
              <p:cNvPr id="241" name=""/>
              <p:cNvSpPr/>
              <p:nvPr/>
            </p:nvSpPr>
            <p:spPr>
              <a:xfrm>
                <a:off x="1322280" y="3003480"/>
                <a:ext cx="29556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322280" y="2451240"/>
                <a:ext cx="29556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227400" y="2451240"/>
              <a:ext cx="295200" cy="832320"/>
              <a:chOff x="3227400" y="2451240"/>
              <a:chExt cx="295200" cy="832320"/>
            </a:xfrm>
          </p:grpSpPr>
          <p:sp>
            <p:nvSpPr>
              <p:cNvPr id="244" name=""/>
              <p:cNvSpPr/>
              <p:nvPr/>
            </p:nvSpPr>
            <p:spPr>
              <a:xfrm>
                <a:off x="3227400" y="300348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27400" y="245124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260440" y="3297240"/>
              <a:ext cx="3463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16000" y="4060800"/>
              <a:ext cx="7700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89440" y="4062240"/>
              <a:ext cx="9014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581360" y="2451240"/>
            <a:ext cx="3183120" cy="2170800"/>
            <a:chOff x="4581360" y="2451240"/>
            <a:chExt cx="3183120" cy="2170800"/>
          </a:xfrm>
        </p:grpSpPr>
        <p:sp>
          <p:nvSpPr>
            <p:cNvPr id="250" name=""/>
            <p:cNvSpPr/>
            <p:nvPr/>
          </p:nvSpPr>
          <p:spPr>
            <a:xfrm>
              <a:off x="5224320" y="2760840"/>
              <a:ext cx="1800" cy="10872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32480" y="3308400"/>
              <a:ext cx="11779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629240" y="2759040"/>
              <a:ext cx="59688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222880" y="3305160"/>
              <a:ext cx="590400" cy="5428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641840" y="2763360"/>
              <a:ext cx="1168560" cy="108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0400" y="2760840"/>
              <a:ext cx="1440" cy="54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22880" y="2762280"/>
              <a:ext cx="5875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40400" y="3844800"/>
              <a:ext cx="58716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2480" y="3300480"/>
              <a:ext cx="144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81360" y="3243240"/>
              <a:ext cx="10512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72120" y="32432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7840" y="32432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57840" y="27036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70320" y="2703600"/>
              <a:ext cx="10512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81360" y="3782880"/>
              <a:ext cx="10512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72120" y="378288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28000" y="2760840"/>
              <a:ext cx="1440" cy="10872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4000" y="3308400"/>
              <a:ext cx="11779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531120" y="2759040"/>
              <a:ext cx="59688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124760" y="3305160"/>
              <a:ext cx="590400" cy="5428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543720" y="2763360"/>
              <a:ext cx="1168200" cy="108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13720" y="2760840"/>
              <a:ext cx="1440" cy="54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24760" y="2762280"/>
              <a:ext cx="58716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844800"/>
              <a:ext cx="58752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34000" y="3300480"/>
              <a:ext cx="180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5040" y="32432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74000" y="32432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59720" y="32432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59720" y="27036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74000" y="27036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80000" y="3773520"/>
              <a:ext cx="115920" cy="11592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74000" y="378288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062680" y="2451240"/>
              <a:ext cx="295200" cy="832320"/>
              <a:chOff x="5062680" y="2451240"/>
              <a:chExt cx="295200" cy="832320"/>
            </a:xfrm>
          </p:grpSpPr>
          <p:sp>
            <p:nvSpPr>
              <p:cNvPr id="283" name=""/>
              <p:cNvSpPr/>
              <p:nvPr/>
            </p:nvSpPr>
            <p:spPr>
              <a:xfrm>
                <a:off x="5062680" y="300348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062680" y="245124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967440" y="2451240"/>
              <a:ext cx="295200" cy="832320"/>
              <a:chOff x="6967440" y="2451240"/>
              <a:chExt cx="295200" cy="832320"/>
            </a:xfrm>
          </p:grpSpPr>
          <p:sp>
            <p:nvSpPr>
              <p:cNvPr id="286" name=""/>
              <p:cNvSpPr/>
              <p:nvPr/>
            </p:nvSpPr>
            <p:spPr>
              <a:xfrm>
                <a:off x="6967440" y="300348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67440" y="245124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000840" y="3297240"/>
              <a:ext cx="34596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56040" y="4062240"/>
              <a:ext cx="7700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29480" y="4062240"/>
              <a:ext cx="9018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43120" y="4454640"/>
            <a:ext cx="3192480" cy="2171160"/>
            <a:chOff x="843120" y="4454640"/>
            <a:chExt cx="3192480" cy="2171160"/>
          </a:xfrm>
        </p:grpSpPr>
        <p:sp>
          <p:nvSpPr>
            <p:cNvPr id="292" name=""/>
            <p:cNvSpPr/>
            <p:nvPr/>
          </p:nvSpPr>
          <p:spPr>
            <a:xfrm>
              <a:off x="1486080" y="4764240"/>
              <a:ext cx="1440" cy="10872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92080" y="5311800"/>
              <a:ext cx="11779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88840" y="4762440"/>
              <a:ext cx="59724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1482840" y="5308560"/>
              <a:ext cx="590400" cy="54288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901800" y="4766760"/>
              <a:ext cx="1168200" cy="108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71800" y="4764240"/>
              <a:ext cx="1440" cy="54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82840" y="4765680"/>
              <a:ext cx="58716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0000" y="5848200"/>
              <a:ext cx="587520" cy="180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92080" y="5303880"/>
              <a:ext cx="180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3120" y="52466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32080" y="52466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17800" y="524664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17800" y="47070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32080" y="47070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3120" y="578628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32080" y="578628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87600" y="4764240"/>
              <a:ext cx="1800" cy="10872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95760" y="5311800"/>
              <a:ext cx="11779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792520" y="4762440"/>
              <a:ext cx="59688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386160" y="5308560"/>
              <a:ext cx="590400" cy="54288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805120" y="4766760"/>
              <a:ext cx="1168560" cy="108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73680" y="4764240"/>
              <a:ext cx="1440" cy="54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86160" y="4765680"/>
              <a:ext cx="5875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03680" y="5848200"/>
              <a:ext cx="587160" cy="1800"/>
            </a:xfrm>
            <a:prstGeom prst="line">
              <a:avLst/>
            </a:prstGeom>
            <a:ln w="36720">
              <a:solidFill>
                <a:srgbClr val="eb61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95760" y="5303880"/>
              <a:ext cx="144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4640" y="52466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33600" y="52466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19680" y="524664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19680" y="47070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33600" y="470700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39960" y="5776920"/>
              <a:ext cx="115920" cy="11592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33600" y="578628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322280" y="4454640"/>
              <a:ext cx="295560" cy="832320"/>
              <a:chOff x="1322280" y="4454640"/>
              <a:chExt cx="295560" cy="832320"/>
            </a:xfrm>
          </p:grpSpPr>
          <p:sp>
            <p:nvSpPr>
              <p:cNvPr id="325" name=""/>
              <p:cNvSpPr/>
              <p:nvPr/>
            </p:nvSpPr>
            <p:spPr>
              <a:xfrm>
                <a:off x="1322280" y="5006880"/>
                <a:ext cx="29556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22280" y="4454640"/>
                <a:ext cx="29556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228840" y="4454640"/>
              <a:ext cx="295560" cy="832320"/>
              <a:chOff x="3228840" y="4454640"/>
              <a:chExt cx="295560" cy="832320"/>
            </a:xfrm>
          </p:grpSpPr>
          <p:sp>
            <p:nvSpPr>
              <p:cNvPr id="328" name=""/>
              <p:cNvSpPr/>
              <p:nvPr/>
            </p:nvSpPr>
            <p:spPr>
              <a:xfrm>
                <a:off x="3228840" y="5006880"/>
                <a:ext cx="29556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28840" y="4454640"/>
                <a:ext cx="29556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2262240" y="5300640"/>
              <a:ext cx="34596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17440" y="6066000"/>
              <a:ext cx="7700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33800" y="6066000"/>
              <a:ext cx="90180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add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583160" y="4454640"/>
            <a:ext cx="3517920" cy="2171160"/>
            <a:chOff x="4583160" y="4454640"/>
            <a:chExt cx="3517920" cy="2171160"/>
          </a:xfrm>
        </p:grpSpPr>
        <p:sp>
          <p:nvSpPr>
            <p:cNvPr id="334" name=""/>
            <p:cNvSpPr/>
            <p:nvPr/>
          </p:nvSpPr>
          <p:spPr>
            <a:xfrm>
              <a:off x="5226120" y="4764240"/>
              <a:ext cx="1440" cy="10872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32480" y="5311800"/>
              <a:ext cx="11779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629240" y="4763880"/>
              <a:ext cx="596880" cy="54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222880" y="5308560"/>
              <a:ext cx="590400" cy="5428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641840" y="4766760"/>
              <a:ext cx="1168560" cy="108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11840" y="4764240"/>
              <a:ext cx="1440" cy="54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22880" y="4765680"/>
              <a:ext cx="5875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0400" y="5848200"/>
              <a:ext cx="58716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32480" y="5305320"/>
              <a:ext cx="144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83160" y="52466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72120" y="52466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57840" y="524664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57840" y="47070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72120" y="47070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83160" y="578808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72120" y="578808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28000" y="4764240"/>
              <a:ext cx="1440" cy="10872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35800" y="5311800"/>
              <a:ext cx="117792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532560" y="4763880"/>
              <a:ext cx="596880" cy="54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24760" y="5308560"/>
              <a:ext cx="590400" cy="5428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543720" y="4766760"/>
              <a:ext cx="1168200" cy="108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3720" y="4764240"/>
              <a:ext cx="1440" cy="5490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24760" y="4765680"/>
              <a:ext cx="58716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43720" y="5848200"/>
              <a:ext cx="587160" cy="180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35800" y="5305320"/>
              <a:ext cx="1440" cy="54936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85040" y="52466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74000" y="524664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59720" y="524664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59720" y="470700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74000" y="4707000"/>
              <a:ext cx="104760" cy="10476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80000" y="5776920"/>
              <a:ext cx="115920" cy="115920"/>
            </a:xfrm>
            <a:prstGeom prst="ellipse">
              <a:avLst/>
            </a:prstGeom>
            <a:solidFill>
              <a:srgbClr val="eb613d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74000" y="5788080"/>
              <a:ext cx="104760" cy="104760"/>
            </a:xfrm>
            <a:prstGeom prst="ellipse">
              <a:avLst/>
            </a:prstGeom>
            <a:solidFill>
              <a:srgbClr val="c0c0c0"/>
            </a:solidFill>
            <a:ln w="36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062680" y="4454640"/>
              <a:ext cx="295200" cy="832320"/>
              <a:chOff x="5062680" y="4454640"/>
              <a:chExt cx="295200" cy="832320"/>
            </a:xfrm>
          </p:grpSpPr>
          <p:sp>
            <p:nvSpPr>
              <p:cNvPr id="367" name=""/>
              <p:cNvSpPr/>
              <p:nvPr/>
            </p:nvSpPr>
            <p:spPr>
              <a:xfrm>
                <a:off x="5062680" y="500688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62680" y="445464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969240" y="4454640"/>
              <a:ext cx="295200" cy="834120"/>
              <a:chOff x="6969240" y="4454640"/>
              <a:chExt cx="295200" cy="834120"/>
            </a:xfrm>
          </p:grpSpPr>
          <p:sp>
            <p:nvSpPr>
              <p:cNvPr id="370" name=""/>
              <p:cNvSpPr/>
              <p:nvPr/>
            </p:nvSpPr>
            <p:spPr>
              <a:xfrm>
                <a:off x="6969240" y="500868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69240" y="4454640"/>
                <a:ext cx="2952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6002280" y="5300640"/>
              <a:ext cx="345960" cy="144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57840" y="6066000"/>
              <a:ext cx="769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add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0200" y="6066000"/>
              <a:ext cx="15508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onkey-sadd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 flipV="1">
            <a:off x="735120" y="4403880"/>
            <a:ext cx="7065720" cy="1080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341960" y="2502000"/>
            <a:ext cx="9360" cy="386064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571760"/>
            <a:ext cx="695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segmen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35120" y="145224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838080" y="2052720"/>
            <a:ext cx="7118640" cy="42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571760"/>
            <a:ext cx="695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mentation: sweep down from max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35120" y="145224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58760" y="2054160"/>
            <a:ext cx="88628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343400" y="2122560"/>
            <a:ext cx="2946240" cy="29401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01280" y="1571760"/>
            <a:ext cx="695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segments: overlap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5120" y="145224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833400" y="2130480"/>
            <a:ext cx="2940120" cy="293364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2309760" y="2805120"/>
            <a:ext cx="3743280" cy="3727440"/>
            <a:chOff x="2309760" y="2805120"/>
            <a:chExt cx="3743280" cy="3727440"/>
          </a:xfrm>
        </p:grpSpPr>
        <p:sp>
          <p:nvSpPr>
            <p:cNvPr id="391" name=""/>
            <p:cNvSpPr/>
            <p:nvPr/>
          </p:nvSpPr>
          <p:spPr>
            <a:xfrm>
              <a:off x="2309760" y="2805120"/>
              <a:ext cx="3743280" cy="3727440"/>
            </a:xfrm>
            <a:prstGeom prst="roundRect">
              <a:avLst>
                <a:gd name="adj" fmla="val 42"/>
              </a:avLst>
            </a:pr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192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3"/>
            <a:stretch/>
          </p:blipFill>
          <p:spPr>
            <a:xfrm>
              <a:off x="2314440" y="2805120"/>
              <a:ext cx="3727440" cy="371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2355840" y="4979880"/>
            <a:ext cx="2136960" cy="871200"/>
            <a:chOff x="2355840" y="4979880"/>
            <a:chExt cx="2136960" cy="871200"/>
          </a:xfrm>
        </p:grpSpPr>
        <p:sp>
          <p:nvSpPr>
            <p:cNvPr id="394" name=""/>
            <p:cNvSpPr/>
            <p:nvPr/>
          </p:nvSpPr>
          <p:spPr>
            <a:xfrm>
              <a:off x="4057560" y="4979880"/>
              <a:ext cx="435240" cy="473040"/>
            </a:xfrm>
            <a:prstGeom prst="ellipse">
              <a:avLst/>
            </a:prstGeom>
            <a:noFill/>
            <a:ln w="36720">
              <a:solidFill>
                <a:srgbClr val="dc2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55840" y="5354640"/>
              <a:ext cx="135720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ti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390840" y="5254560"/>
              <a:ext cx="63036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043520" y="4648320"/>
            <a:ext cx="1546200" cy="377640"/>
            <a:chOff x="4043520" y="4648320"/>
            <a:chExt cx="1546200" cy="377640"/>
          </a:xfrm>
        </p:grpSpPr>
        <p:sp>
          <p:nvSpPr>
            <p:cNvPr id="398" name=""/>
            <p:cNvSpPr/>
            <p:nvPr/>
          </p:nvSpPr>
          <p:spPr>
            <a:xfrm>
              <a:off x="5276880" y="4684680"/>
              <a:ext cx="312840" cy="341280"/>
            </a:xfrm>
            <a:prstGeom prst="ellipse">
              <a:avLst/>
            </a:prstGeom>
            <a:noFill/>
            <a:ln w="36720">
              <a:solidFill>
                <a:srgbClr val="dc2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43520" y="4648320"/>
              <a:ext cx="65088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14840" y="4781520"/>
              <a:ext cx="62712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191040" y="2994120"/>
            <a:ext cx="1576080" cy="622080"/>
            <a:chOff x="3191040" y="2994120"/>
            <a:chExt cx="1576080" cy="622080"/>
          </a:xfrm>
        </p:grpSpPr>
        <p:sp>
          <p:nvSpPr>
            <p:cNvPr id="402" name=""/>
            <p:cNvSpPr/>
            <p:nvPr/>
          </p:nvSpPr>
          <p:spPr>
            <a:xfrm>
              <a:off x="3191040" y="3197160"/>
              <a:ext cx="620640" cy="419040"/>
            </a:xfrm>
            <a:prstGeom prst="ellipse">
              <a:avLst/>
            </a:prstGeom>
            <a:noFill/>
            <a:ln w="36720">
              <a:solidFill>
                <a:srgbClr val="dc2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17840" y="2994120"/>
              <a:ext cx="44928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747600" y="3141720"/>
              <a:ext cx="52884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Time-varying Data Analysi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71760"/>
            <a:ext cx="695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35120" y="1452240"/>
            <a:ext cx="6705360" cy="11160"/>
          </a:xfrm>
          <a:prstGeom prst="line">
            <a:avLst/>
          </a:prstGeom>
          <a:ln w="3672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838080" y="2052720"/>
            <a:ext cx="7118640" cy="428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abhat</cp:lastModifiedBy>
  <dcterms:modified xsi:type="dcterms:W3CDTF">2007-10-30T18:22:24Z</dcterms:modified>
  <cp:revision>2</cp:revision>
  <dc:subject/>
  <dc:title>Slide 1</dc:title>
</cp:coreProperties>
</file>